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24A0-52AD-4925-9392-12CA471A34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Амфотерные соеди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фотерными называют соединения, которые в зависимости от условий могут быть как донорами катионов водорода и проявлять кислотные свойства, так и их акцепторами и  проявлять основ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525E-24EF-4CD3-AA65-33599A79C3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ff00"/>
                </a:solidFill>
                <a:uFillTx/>
                <a:latin typeface="Book Antiqua"/>
              </a:rPr>
              <a:t>Инструкция для обучающихся по заочному курсу «Общая химия для 12 класс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Категория обучающихся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атериалы данной презентации предоставляются  обучающемуся для самостоятельного изучения темы «Вещества и их свойства», из курса общей химии 12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одержание курса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ключает 5 презентаций тем. Каждая учебная тема содержит четкую структуру учебного материала по конкретной теме, последний слайд контрольный тест – задания для самоконтр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рок обучения по данному курсу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т одной недели до двух месяцев (определяется индивидуаль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Контроль знаний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ащийся предоставляет отчет о выполнении тестовых заданий – лист с вариантами заданий, с указанием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Calibri"/>
              </a:rPr>
              <a:t>Оценивание результата: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«3» - выполнено 50% заданий, «4» - 75%, «5» - 100 %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Результат обучения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чет (незачет) изученной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A740-4166-4E3C-B004-A5F2B3EA7D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Амфотерные 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и являются в неорганической химии:  Аl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Zn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Cr(ОН)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е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Gе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Sn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Pb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рганической химии типичными представителями являются аминокисл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– CH – C             a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мино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   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A72E-9BA3-4033-9DF6-C9D4EF7AA78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В реакциях с кислотами амфотерные оксиды ведут себя как основные окси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6НСl = 2АlС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ЗН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 реакциях со щелочами амфотерные оксиды ведут себя как кислотные окс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 2NаОН  = 2NаАlО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Н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C0C6-F411-4BE2-AB19-1D965221AD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мфотерные гидроксиды взаимодействуют с растворами кислот и ведут себя как нерастворимые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(ОН)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ЗНСl = АlС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ЗН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и взаимодействии с растворами щелочей амфотерные гидроксиды ведут себя как слабые кисл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 NаОН  = NаАlО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2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DE6A-9347-42A0-848E-F04C23AEA6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H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CH –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C O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миногруппа</a:t>
            </a: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–</a:t>
            </a: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NH</a:t>
            </a:r>
            <a:r>
              <a:rPr b="0" lang="en-US" sz="1000" spc="-1" strike="noStrike" u="sng">
                <a:solidFill>
                  <a:srgbClr val="ffff00"/>
                </a:solidFill>
                <a:uFillTx/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птор водорода, опреде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сво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минокисл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Карбоксильная группа, 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донор водорода, опреде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ислотные сво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минокисл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7D99-9772-411C-8E83-B1B145E2B4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Кислотные 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  COOH + NaOH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  COONa + 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E731-6DA2-481A-9C9F-376E47835D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Основные 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3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5A95-C17C-4022-9BA6-AB3B0D2224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 для само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свойства амфотерных гидрокс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iles.school-collection.edu.ru/dlrstore/d77a57cd-8cff-11db-b606-0800200c9a66/ch11_22_03.sw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свойства амфотерных окс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iles.school-collection.edu.ru/dlrstore/d77a57cc-8cff-11db-b606-0800200c9a66/ch11_22_02.sw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AA2B-D97E-42DC-8E39-511717CC7E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AECB-8E77-4FD5-9A24-C7DB6D1C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936D5-E9F9-4E87-9650-25FD2CC3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E85F-52B9-4A7D-98B4-31EBF1AF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2811C-731A-4207-B7BC-74F221EA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40A5F-92B4-4CDA-9E17-0C712AE6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723B8-98B6-4397-AF68-835E7DFB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C4D6A-51A0-4EA7-9F18-21376385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62354-21DF-470A-AE17-06EEA28C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25602-AEFD-4B05-8367-C8B2F77D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DB9A1-6444-431B-B008-460AB13B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FD6E2-80CB-4E94-953A-2FE8BD6A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D27DE-ABB7-47C8-B47D-AED39AFB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48C5E-F827-4EE0-908E-30DDA1DB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B2C1B-70D1-4699-9A66-7BF836A3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CFE25-5478-451A-8D2B-6F8BAE00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F6458-B898-4B15-A9EA-AA933479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D8FE6-68C7-43CC-A18D-249A9E7A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B3486-880C-4207-B742-5938D7B9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DD8C2-8C31-4F0B-B8C3-20757F25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F61EF-40F9-43F2-87A2-F5109B07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68D11-2089-499A-9858-E806D9DF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257E-7EAD-418F-9956-E15495B7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7BAF-79C4-43AB-8462-0E28E8AE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218B4-976A-4BC8-A7E8-87FE407A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BEAE-4140-46FC-9CF6-81FB9A6AA9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BD38-2A39-4477-B178-FFF3BA15A0F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aramond"/>
              </a:rPr>
              <a:t>Амфотерные соединения</a:t>
            </a: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19280" y="2276280"/>
            <a:ext cx="8424720" cy="30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мфотерными называют соединения, которые в зависимости от условий могут быть как донорами катионов водорода и проявлять кислотные свойства, так и их акцепторами и  проявлять основные свой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7512120" cy="82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Book Antiqua"/>
              </a:rPr>
              <a:t>Инструкция для обучающихся по заочному курсу «Общая химия для 12 класса»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Категория обучающихся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материалы данной презентации предоставляются  обучающемуся для самостоятельного изучения темы «Вещества и их свойства», из курса общей химии 12 клас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Содержание курса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включает 5 презентаций тем. Каждая учебная тема содержит четкую структуру учебного материала по конкретной теме, последний слайд контрольный тест – задания для самоконтроля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Срок обучения по данному курсу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от одной недели до двух месяцев (определяется индивидуально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Контроль знаний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учащийся предоставляет отчет о выполнении тестовых заданий – лист с вариантами заданий, с указанием тем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ffff"/>
                </a:solidFill>
                <a:latin typeface="Arial"/>
              </a:rPr>
              <a:t>Оценивание результата: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 «3» - выполнено 50% заданий, «4» - 75%, «5» - 100 % задани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Результат обучения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зачет (незачет) изученной тем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7183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aramond"/>
              </a:rPr>
              <a:t>Амфотерные соединения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ими являются в неорганической химии:  Аl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Zn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Cr(ОН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Ве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Gе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Sn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Pb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др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рганической химии типичными представителями являются аминокисло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– CH – C             a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мино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           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8"/>
          <p:cNvGrpSpPr/>
          <p:nvPr/>
        </p:nvGrpSpPr>
        <p:grpSpPr>
          <a:xfrm>
            <a:off x="3419640" y="4508640"/>
            <a:ext cx="1368360" cy="791640"/>
            <a:chOff x="3419640" y="4508640"/>
            <a:chExt cx="1368360" cy="791640"/>
          </a:xfrm>
        </p:grpSpPr>
        <p:sp>
          <p:nvSpPr>
            <p:cNvPr id="108" name="Line 4"/>
            <p:cNvSpPr/>
            <p:nvPr/>
          </p:nvSpPr>
          <p:spPr>
            <a:xfrm flipH="1">
              <a:off x="4427280" y="4508640"/>
              <a:ext cx="21564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5"/>
            <p:cNvSpPr/>
            <p:nvPr/>
          </p:nvSpPr>
          <p:spPr>
            <a:xfrm>
              <a:off x="3419640" y="5083200"/>
              <a:ext cx="0" cy="14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6"/>
            <p:cNvSpPr/>
            <p:nvPr/>
          </p:nvSpPr>
          <p:spPr>
            <a:xfrm flipH="1">
              <a:off x="4500360" y="4579920"/>
              <a:ext cx="21564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4500720" y="5083200"/>
              <a:ext cx="287280" cy="21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36596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В реакциях с кислотами амфотерные оксиды ведут себя как основные оксид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700704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6НСl = 2АlС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З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 реакциях со щелочами амфотерные оксиды ведут себя как кислотные окс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 2NаОН  = 2NаАl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805800" cy="17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Амфотерные гидроксиды взаимодействуют с растворами кислот и ведут себя как нерастворимые основания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565360"/>
            <a:ext cx="7772400" cy="37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l(ОН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 ЗНСl = АlС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+ З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 взаимодействии с растворами щелочей амфотерные гидроксиды ведут себя как слабые кисл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l(ОН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 NаОН  = NаАl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2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7512120" cy="6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7280" y="1790280"/>
            <a:ext cx="7956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H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CH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 O 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миногруппа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H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цептор водорода, определяе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сновные свой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минокисло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рбоксильная группа,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- донор водорода, определяе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ислотные свой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минокисло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3635280" y="2852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00240" y="620640"/>
            <a:ext cx="794376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Кислотные 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35280" y="2565000"/>
            <a:ext cx="698472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  COOH + NaOH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  COONa + 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92280"/>
            <a:ext cx="7993080" cy="7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Основные 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9"/>
          <p:cNvGrpSpPr/>
          <p:nvPr/>
        </p:nvGrpSpPr>
        <p:grpSpPr>
          <a:xfrm>
            <a:off x="3276720" y="2781360"/>
            <a:ext cx="4174920" cy="647640"/>
            <a:chOff x="3276720" y="2781360"/>
            <a:chExt cx="4174920" cy="647640"/>
          </a:xfrm>
        </p:grpSpPr>
        <p:sp>
          <p:nvSpPr>
            <p:cNvPr id="129" name="AutoShape 4"/>
            <p:cNvSpPr/>
            <p:nvPr/>
          </p:nvSpPr>
          <p:spPr>
            <a:xfrm>
              <a:off x="3276720" y="2924280"/>
              <a:ext cx="73080" cy="504720"/>
            </a:xfrm>
            <a:custGeom>
              <a:avLst/>
              <a:gdLst>
                <a:gd name="textAreaLeft" fmla="*/ 21240 w 73080"/>
                <a:gd name="textAreaRight" fmla="*/ 73440 w 73080"/>
                <a:gd name="textAreaTop" fmla="*/ 20880 h 504720"/>
                <a:gd name="textAreaBottom" fmla="*/ 4838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5"/>
            <p:cNvSpPr/>
            <p:nvPr/>
          </p:nvSpPr>
          <p:spPr>
            <a:xfrm flipH="1">
              <a:off x="6227640" y="2924280"/>
              <a:ext cx="144720" cy="504720"/>
            </a:xfrm>
            <a:custGeom>
              <a:avLst/>
              <a:gdLst>
                <a:gd name="textAreaLeft" fmla="*/ 42840 w 144720"/>
                <a:gd name="textAreaRight" fmla="*/ 145440 w 144720"/>
                <a:gd name="textAreaTop" fmla="*/ 20880 h 504720"/>
                <a:gd name="textAreaBottom" fmla="*/ 4838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7236000" y="2997360"/>
              <a:ext cx="21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6372360" y="2924280"/>
              <a:ext cx="28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>
              <a:off x="6516720" y="278136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6452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Задания для самопроверки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1790280"/>
            <a:ext cx="774072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свойства амфотерных гидрокси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http://files.school-collection.edu.ru/dlrstore/d77a57cd-8cff-11db-b606-0800200c9a66/ch11_22_03.sw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свойства амфотерных окси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http://files.school-collection.edu.ru/dlrstore/d77a57cc-8cff-11db-b606-0800200c9a66/ch11_22_02.sw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8:49:50Z</dcterms:created>
  <dc:creator>User</dc:creator>
  <dc:description/>
  <dc:language>en-US</dc:language>
  <cp:lastModifiedBy>LEGION</cp:lastModifiedBy>
  <dcterms:modified xsi:type="dcterms:W3CDTF">2015-05-01T11:08:35Z</dcterms:modified>
  <cp:revision>10</cp:revision>
  <dc:subject/>
  <dc:title>Амфотерные гидрооксиды </dc:title>
</cp:coreProperties>
</file>